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8.pct" ContentType="image/x-pict"/>
  <Override PartName="/ppt/media/image10.png" ContentType="image/png"/>
  <Override PartName="/ppt/media/image9.png" ContentType="image/png"/>
  <Override PartName="/ppt/media/image17.png" ContentType="image/png"/>
  <Override PartName="/ppt/media/image16.pct" ContentType="image/x-pict"/>
  <Override PartName="/ppt/media/image14.png" ContentType="image/png"/>
  <Override PartName="/ppt/media/image6.pct" ContentType="image/x-pict"/>
  <Override PartName="/ppt/media/image3.jpeg" ContentType="image/jpeg"/>
  <Override PartName="/ppt/media/image15.png" ContentType="image/png"/>
  <Override PartName="/ppt/media/image4.pct" ContentType="image/x-pict"/>
  <Override PartName="/ppt/media/image12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5.pct" ContentType="image/x-pict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97C8-239F-4A50-9998-BBDD6A55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_x0010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C33-65A7-46EE-B728-A4D7B80E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BE4-06CB-4170-8755-A189CBCB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972-0047-443C-A409-4BA4087D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9C5-57A0-494B-91E9-2028317A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5486-D683-49B0-A59A-21FFAEE5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DB56-F0A4-4F23-A96C-7955A11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E02F-990F-4900-A023-3F61925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F42B-9561-4532-9370-28C3CD71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9556-F8CE-441B-B69C-13BA91B3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0785-563B-42CD-A246-FC0EA04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B264-3CEA-4F3A-9603-E3F6628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126-C6BF-41B8-A0F3-8FD19B9D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881-B2A4-4845-97F3-B9A55722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1778-5F25-48CB-8817-556F7034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FC1C-B7BF-4105-A48E-BBF75EAC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3844-4297-4FA4-827B-2AD6C43D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3353-8936-4A80-8E77-9CD061EC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AF9-FC1D-4743-ADF7-E51F83AE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FFD-B703-4062-9616-EF996A72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DAA4-43FA-4CF6-BA23-A93A14C3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81E-5449-459D-9870-04BD51C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140-8AF6-4663-BDA5-57BAF43D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BFC-64FD-45D3-AF16-7936AB9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10D-6F5A-41ED-85CF-556B702D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3452-2EC4-423A-841B-129562D44B36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6D0-96CB-41F2-A8AE-30E934056DD5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By: Marleen, Alex, Jennifer , Omar, Guillermo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5562720" cy="5073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6400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splic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04960" y="17524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net motivation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lege radio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out-search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craigweaver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global-b2b-network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illshrink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129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1143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used to get pi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14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Map where they  have happen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100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lf of Illino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brask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klahom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llas Texa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ansas 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3341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tornadochaser.net/2005/may1-10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905120" y="2895480"/>
            <a:ext cx="3352680" cy="229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391520" y="198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Interesting Fac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4100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2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e3"/>
                </a:solidFill>
                <a:latin typeface="Trebuchet MS"/>
              </a:rPr>
              <a:t>As a tornado is to die out it is in a stage called roping ou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1721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e3"/>
                </a:solidFill>
                <a:latin typeface="Trebuchet MS"/>
              </a:rPr>
              <a:t>The tornado will get very narrow and look like a  rop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472428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7240" y="586728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b1de"/>
                </a:solidFill>
                <a:latin typeface="Arial"/>
              </a:rPr>
              <a:t>http://gallery.ph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at is a Tornado?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00720" y="1981080"/>
            <a:ext cx="33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wind storm,cold air and warm air me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l ,r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35812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6324120"/>
            <a:ext cx="7315200" cy="30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Victim’s destroyed house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6680" y="1981080"/>
            <a:ext cx="5653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1295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Useful Safety tip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00720" y="1981080"/>
            <a:ext cx="33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cal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asemen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first aid k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uch down &amp; cover your he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away from window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enter of ro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1049400" y="264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2720" y="502920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h.noa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335304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gs you need during a tornado</a:t>
            </a:r>
            <a:endParaRPr b="0" i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8604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ligh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id k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1371600" cy="1339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59080" y="4745160"/>
            <a:ext cx="1346040" cy="946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89532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809880" y="4952880"/>
            <a:ext cx="90972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317840" y="6172200"/>
            <a:ext cx="43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048120" y="3429000"/>
            <a:ext cx="1838160" cy="1450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rcRect l="4360" t="0" r="8449" b="4348"/>
          <a:stretch/>
        </p:blipFill>
        <p:spPr>
          <a:xfrm>
            <a:off x="1295280" y="137160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1905120" y="3429000"/>
            <a:ext cx="1122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Interesting Fact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ldest Known Tornado Photo - Date: 1884 August 28 Historic NWS Collection 22 miles southwest of Howard, South Dakota Courtesy NOAA/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989520" cy="4190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181480" y="603576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377"/>
                </a:solidFill>
                <a:latin typeface="Arial"/>
              </a:rPr>
              <a:t>http://www.tornado chaser.net/histor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rebuchet MS"/>
              </a:rPr>
              <a:t>When and Where they most occur.</a:t>
            </a:r>
            <a:endParaRPr b="0" i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90960" y="182880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Pl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Rocky Mount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Tex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Kans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summer\spr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Rockwell Ext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Extra Bold"/>
              </a:rPr>
              <a:t>mid wester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4419720" cy="2982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4724280"/>
            <a:ext cx="373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underground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4:32Z</dcterms:created>
  <dc:creator>D83  User</dc:creator>
  <dc:description/>
  <dc:language>en-US</dc:language>
  <cp:lastModifiedBy>D83  User</cp:lastModifiedBy>
  <dcterms:modified xsi:type="dcterms:W3CDTF">2011-03-23T19:12:07Z</dcterms:modified>
  <cp:revision>35</cp:revision>
  <dc:subject/>
  <dc:title>PowerPoint Presentation</dc:title>
</cp:coreProperties>
</file>